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CB99-B763-4D3B-8D93-B4BF4E4FB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8D17-41C9-4488-AF1B-84F568EB1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EA4B-36E9-473D-80E9-55BCF444A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tion of Benedict XIII (reigned 1394 – 1423); source: http://en.wikipedia.org/wiki/File:Antipope_Benedict_XIII.jpg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e Gregory XII (reigned 1406- 1415); source: http://en.wikipedia.org/wiki/File:Gregory_XII.jpg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e Alexander V (reigned 1409- 1410); source: http://en.wikipedia.org/wiki/File:Antipope_Alexander_V_%281409-1410%29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AFA7-C52F-45E2-841F-A809A877B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Wycliffe, © John M. Kennedy; source: http://upload.wikimedia.org/wikipedia/commons/3/3e/Jwycliffejmk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 Hus at the stake; source: http://upload.wikimedia.org/wikipedia/commons/b/b0/Jan_Hus_at_the_Stake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asmus by Hans Holbein the Younger; source: http://upload.wikimedia.org/wikipedia/commons/8/89/Hans_Holbein_d._J._04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D51B-4214-4A0F-B91B-26579F30B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ther’s Ninety-Five Theses; source: http://upload.wikimedia.org/wikipedia/commons/8/81/95Thes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0D5F-C129-4AE7-83C3-EEC16FC6B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uther’s Bible; source: http://upload.wikimedia.org/wikipedia/commons/0/03/Lutherbibe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E159-6D3A-450A-91DA-36CEB7ED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ther before the Diet of Worms; source: http://upload.wikimedia.org/wikipedia/commons/1/1d/Diet_of_Worm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A696-7E26-42E7-AB88-4E8CBC01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ing press; source: http://upload.wikimedia.org/wikipedia/commons/1/17/Handtiegelpresse_von_181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5361-D4E9-4ABE-90E7-CAC17ECB8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nt Bartholomew’s Day massacre, by François Dubois; source: http://upload.wikimedia.org/wikipedia/commons/8/8d/Massacre_saint_barthelem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8483-1968-4B40-BD8B-0031F645C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ther’s Bible; source: http://upload.wikimedia.org/wikipedia/commons/0/03/Lutherbibe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E9A6-04D1-447A-A408-2DB8BAA3A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Calvin; engraving by René Boyvin; source: http://upload.wikimedia.org/wikipedia/commons/7/7b/Calvin_1562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VIII (ruled 1509 – 1547) by Hans Holbein the Younger; source: http://upload.wikimedia.org/wikipedia/commons/8/8a/Hans_Holbein_d._J._07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425C-BDB0-4153-A71C-0EF080C9B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Luthe,r by Lucas Cranach the Elder; source: http://upload.wikimedia.org/wikipedia/commons/6/61/Luther46c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B3F4-CCE2-4344-9A10-C6D5FB8A8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quare in modern Wittenberg; source: http://upload.wikimedia.org/wikipedia/commons/b/b0/Wittenberg_Market_square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808-5D7A-483A-9964-61A79720A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B5FB-D4A3-46D1-A864-BA46221C2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FB2C-1C78-4BA2-B897-040F45B68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cut of the pope selling indulgences,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ssionary of the Christ and Antichrist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upload.wikimedia.org/wikipedia/commons/6/6a/Antichrist1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indulgence; inscription on the left transept of the Basilica of St. John Lateran, Rome. © Marie-Lan Nguyen / Wikimedia Commons. Source: http://en.wikipedia.org/wiki/File:Indulgence_San_Giovanni_in_Laterano_2006-09-0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60A7-F8A9-40FA-BCEF-DA8A9A3E7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E740-2911-45FF-86CD-BD8B5F23E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Philip IV of France (ruled 1285 – 1314); source: http://en.wikipedia.org/wiki/File:Philippe_IV_Le_Be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e Urban VI (reigned 1378 – 1389); source: http://en.wikipedia.org/wiki/File:Urbanus_VI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CE7B-9A8E-44CB-97C8-3E52DC02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and the Tiber river, photo by Dana M. Johnson; source: http://upload.wikimedia.org/wikipedia/commons/c/ca/Castel_D%27Angelo_from_across_the_Tiber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gnon; photo by Jean-Marc Rosier; source: http://upload.wikimedia.org/wikipedia/commons/d/db/Avignon%2C_Palais_des_Papes_by_JM_Rosie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558-42BA-46DC-9458-DC0E8DD4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F2F-475E-4D46-9AD8-68D73AC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37E-7623-4D42-8516-C6DA451C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044-68A4-441C-9EA2-90CAD7AA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AA1-E541-4CB4-93A5-D1DE724B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873-44A2-4210-8A71-2319EED8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0DB-F407-4034-B463-2D677646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B44-C109-4E21-9B2B-6AE83869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5A1-9961-45DA-8791-D0C5246C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DFD-382D-48D4-A57A-67E70132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74F-70D3-4B6E-B51A-9D19AFA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BFA-A543-4D0B-B088-546AB853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b7d1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cb7d1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b7d1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BCF2-B18A-4F09-91BA-58D82C403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54F1-0C00-4232-A9D6-50EAEB111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This PowerPoint presentation accompanies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Closeup Teaching Unit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The Protestant Reformation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1300 – 1570 CE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Martin Luther: The Protestant Reformation</a:t>
            </a:r>
            <a:br>
              <a:rPr sz="4000"/>
            </a:b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  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51" name="Picture 9" descr="slide0001_image004"/>
          <p:cNvPicPr/>
          <p:nvPr/>
        </p:nvPicPr>
        <p:blipFill>
          <a:blip r:embed="rId1"/>
          <a:stretch/>
        </p:blipFill>
        <p:spPr>
          <a:xfrm>
            <a:off x="2743200" y="380880"/>
            <a:ext cx="3733920" cy="10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Three Popes!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The next six popes lived in Avignon. Pope Gregory then moved the papacy back to Rome in 1377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When Gregory died, the French cardinals did not like the new pope in Rome, so they elected a different pope in Avignon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Later, a Church council elected a third pope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81" name="Picture 1" descr="http://upload.wikimedia.org/wikipedia/commons/d/dd/Antipope_Benedict_XIII.jpg"/>
          <p:cNvPicPr/>
          <p:nvPr/>
        </p:nvPicPr>
        <p:blipFill>
          <a:blip r:embed="rId1"/>
          <a:srcRect l="2052" t="1990" r="3690" b="17331"/>
          <a:stretch/>
        </p:blipFill>
        <p:spPr>
          <a:xfrm>
            <a:off x="1600200" y="4876920"/>
            <a:ext cx="1447920" cy="178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File:Gregory XII.jpg"/>
          <p:cNvPicPr/>
          <p:nvPr/>
        </p:nvPicPr>
        <p:blipFill>
          <a:blip r:embed="rId2"/>
          <a:stretch/>
        </p:blipFill>
        <p:spPr>
          <a:xfrm>
            <a:off x="3962520" y="495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File:Antipope Alexander V (1409-1410).JPG"/>
          <p:cNvPicPr/>
          <p:nvPr/>
        </p:nvPicPr>
        <p:blipFill>
          <a:blip r:embed="rId3"/>
          <a:srcRect l="2948" t="3932" r="0" b="10670"/>
          <a:stretch/>
        </p:blipFill>
        <p:spPr>
          <a:xfrm>
            <a:off x="6324480" y="4876920"/>
            <a:ext cx="129564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Calls for Reform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333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John Wycliffe (1330-1384)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Questioned the authority of the pope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Jan Hus (1370-1415)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Criticized the vast wealth of the Church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7d10"/>
                </a:solidFill>
                <a:latin typeface="Verdana"/>
              </a:rPr>
              <a:t>Desiderius Erasmus (1469-1536)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Attacked corruption in the Church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86" name="Picture 7" descr="http://upload.wikimedia.org/wikipedia/commons/8/89/Hans_Holbein_d._J._047.jpg"/>
          <p:cNvPicPr/>
          <p:nvPr/>
        </p:nvPicPr>
        <p:blipFill>
          <a:blip r:embed="rId1"/>
          <a:stretch/>
        </p:blipFill>
        <p:spPr>
          <a:xfrm>
            <a:off x="7162920" y="4191120"/>
            <a:ext cx="1838160" cy="243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upload.wikimedia.org/wikipedia/commons/b/b0/Jan_Hus_at_the_Stake.jpg"/>
          <p:cNvPicPr/>
          <p:nvPr/>
        </p:nvPicPr>
        <p:blipFill>
          <a:blip r:embed="rId2"/>
          <a:stretch/>
        </p:blipFill>
        <p:spPr>
          <a:xfrm>
            <a:off x="5334120" y="2438280"/>
            <a:ext cx="16048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upload.wikimedia.org/wikipedia/commons/3/3e/Jwycliffejmk.jpg"/>
          <p:cNvPicPr/>
          <p:nvPr/>
        </p:nvPicPr>
        <p:blipFill>
          <a:blip r:embed="rId3"/>
          <a:stretch/>
        </p:blipFill>
        <p:spPr>
          <a:xfrm>
            <a:off x="7086600" y="1143000"/>
            <a:ext cx="17971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Luther Looks for Reforms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6479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uther criticized Church practices, like selling indulgences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He wanted to begin a discussion within the Church about the true path to salvation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He nailed his </a:t>
            </a:r>
            <a:r>
              <a:rPr b="1" i="1" lang="en-US" sz="2400" spc="-1" strike="noStrike">
                <a:solidFill>
                  <a:srgbClr val="336699"/>
                </a:solidFill>
                <a:latin typeface="Verdana"/>
              </a:rPr>
              <a:t>Ninety-Five Theses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, or arguments, to the door of Wittenberg cathedral for all to see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91" name="Picture 6" descr="http://upload.wikimedia.org/wikipedia/commons/8/81/95Thesen.jpg"/>
          <p:cNvPicPr/>
          <p:nvPr/>
        </p:nvPicPr>
        <p:blipFill>
          <a:blip r:embed="rId1"/>
          <a:stretch/>
        </p:blipFill>
        <p:spPr>
          <a:xfrm>
            <a:off x="4952880" y="1981080"/>
            <a:ext cx="4084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Protestant Teaching:</a:t>
            </a:r>
            <a:br>
              <a:rPr sz="4000"/>
            </a:b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Justification by Faith Alone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The Bible is the only source of truth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People can read and understand the Bible themselves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Salvation comes only through faith in Christ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127880" y="5181480"/>
            <a:ext cx="261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be2e"/>
                </a:solidFill>
                <a:latin typeface="Verdana"/>
              </a:rPr>
              <a:t>Luther’s Bib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http://upload.wikimedia.org/wikipedia/commons/0/03/Lutherbibel.jpg"/>
          <p:cNvPicPr/>
          <p:nvPr/>
        </p:nvPicPr>
        <p:blipFill>
          <a:blip r:embed="rId1"/>
          <a:stretch/>
        </p:blipFill>
        <p:spPr>
          <a:xfrm>
            <a:off x="685800" y="2057400"/>
            <a:ext cx="3711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Excommunication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9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Pope Leo X demanded that Luther recant 41 of his </a:t>
            </a:r>
            <a:r>
              <a:rPr b="1" i="1" lang="en-US" sz="2400" spc="-1" strike="noStrike">
                <a:solidFill>
                  <a:srgbClr val="336699"/>
                </a:solidFill>
                <a:latin typeface="Verdana"/>
              </a:rPr>
              <a:t>Ninety-Five Theses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uther was brought before the Diet of Worms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In January 1521, Luther was excommunicated from the Church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98" name="Picture 6" descr="http://upload.wikimedia.org/wikipedia/commons/1/1d/Diet_of_Worms.jpg"/>
          <p:cNvPicPr/>
          <p:nvPr/>
        </p:nvPicPr>
        <p:blipFill>
          <a:blip r:embed="rId1"/>
          <a:stretch/>
        </p:blipFill>
        <p:spPr>
          <a:xfrm>
            <a:off x="2590920" y="1219320"/>
            <a:ext cx="3609720" cy="227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The Printing Press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uther’s ideas spread quickly with the help of the printing press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uther’s supporters distributed copies of his speeches and essays far and wide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Millions of people sided with Luther against the Roman Catholic Church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101" name="Picture 6" descr="http://upload.wikimedia.org/wikipedia/commons/1/17/Handtiegelpresse_von_1811.jpg"/>
          <p:cNvPicPr/>
          <p:nvPr/>
        </p:nvPicPr>
        <p:blipFill>
          <a:blip r:embed="rId1"/>
          <a:srcRect l="10278" t="8802" r="6340" b="2992"/>
          <a:stretch/>
        </p:blipFill>
        <p:spPr>
          <a:xfrm>
            <a:off x="5181480" y="1143000"/>
            <a:ext cx="3267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A New Church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Luther soon had many followers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His supporters began to organize a new Christian denomination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Several German princes supported Luther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Lutherans and Catholics fought each other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he first wars ended with the Treaty of Augsburg, but fighting in Europe over religion continued to the mid-seventeenth century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562720" y="1600200"/>
            <a:ext cx="3124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7d10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be2e"/>
                </a:solidFill>
                <a:latin typeface="Verdana"/>
              </a:rPr>
              <a:t>Saint Bartholomew’s </a:t>
            </a: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46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be2e"/>
                </a:solidFill>
                <a:latin typeface="Verdana"/>
              </a:rPr>
              <a:t>Day massacre</a:t>
            </a: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105" name="Picture 6" descr="http://upload.wikimedia.org/wikipedia/commons/8/8d/Massacre_saint_barthelemy.jpg"/>
          <p:cNvPicPr/>
          <p:nvPr/>
        </p:nvPicPr>
        <p:blipFill>
          <a:blip r:embed="rId1"/>
          <a:stretch/>
        </p:blipFill>
        <p:spPr>
          <a:xfrm>
            <a:off x="5410080" y="1447920"/>
            <a:ext cx="3311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Lutheranism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uther’s followers disagreed with many of the teachings of the Catholic Church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They rejected the authority of Church councils and the pope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Reading the Bible was the only way to learn how to lead a good life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be2e"/>
                </a:solidFill>
                <a:latin typeface="Verdana"/>
              </a:rPr>
              <a:t>Luther translated 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be2e"/>
                </a:solidFill>
                <a:latin typeface="Verdana"/>
              </a:rPr>
              <a:t>the  Bible into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be2e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a5be2e"/>
                </a:solidFill>
                <a:latin typeface="Verdana"/>
              </a:rPr>
              <a:t>German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109" name="Picture 6" descr="http://upload.wikimedia.org/wikipedia/commons/0/03/Lutherbibel.jpg"/>
          <p:cNvPicPr/>
          <p:nvPr/>
        </p:nvPicPr>
        <p:blipFill>
          <a:blip r:embed="rId1"/>
          <a:stretch/>
        </p:blipFill>
        <p:spPr>
          <a:xfrm>
            <a:off x="4800600" y="2133720"/>
            <a:ext cx="3711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The Reformation spread to other countries</a:t>
            </a:r>
            <a:r>
              <a:rPr b="1" lang="en-US" sz="4000" spc="-1" strike="noStrike">
                <a:solidFill>
                  <a:srgbClr val="cb7d1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952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France and Switzerland:                     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John Calvin preached the idea of “predestination” and that some people had been chosen by God for salvation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England:                    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King Henry VIII refused to recognize the Roman Catholic Church and started a new church, the Church of England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112" name="Picture 7" descr="http://upload.wikimedia.org/wikipedia/commons/7/7b/Calvin_1562.jpg"/>
          <p:cNvPicPr/>
          <p:nvPr/>
        </p:nvPicPr>
        <p:blipFill>
          <a:blip r:embed="rId1"/>
          <a:stretch/>
        </p:blipFill>
        <p:spPr>
          <a:xfrm>
            <a:off x="6858000" y="1523880"/>
            <a:ext cx="2016000" cy="269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8" descr="http://upload.wikimedia.org/wikipedia/commons/8/8a/Hans_Holbein_d._J._074.jpg"/>
          <p:cNvPicPr/>
          <p:nvPr/>
        </p:nvPicPr>
        <p:blipFill>
          <a:blip r:embed="rId2"/>
          <a:srcRect l="24348" t="0" r="16808" b="48946"/>
          <a:stretch/>
        </p:blipFill>
        <p:spPr>
          <a:xfrm>
            <a:off x="5257800" y="4029120"/>
            <a:ext cx="251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5137-F530-4352-826E-340D0B336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6" descr="earth_anim"/>
          <p:cNvPicPr/>
          <p:nvPr/>
        </p:nvPicPr>
        <p:blipFill>
          <a:blip r:embed="rId1"/>
          <a:stretch/>
        </p:blipFill>
        <p:spPr>
          <a:xfrm>
            <a:off x="1600200" y="152280"/>
            <a:ext cx="5867280" cy="5867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5"/>
          <p:cNvSpPr/>
          <p:nvPr/>
        </p:nvSpPr>
        <p:spPr>
          <a:xfrm>
            <a:off x="3276720" y="27432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En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Martin Luther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53" name="Picture 5" descr="http://upload.wikimedia.org/wikipedia/commons/6/61/Luther46c.jpg"/>
          <p:cNvPicPr/>
          <p:nvPr/>
        </p:nvPicPr>
        <p:blipFill>
          <a:blip r:embed="rId1"/>
          <a:stretch/>
        </p:blipFill>
        <p:spPr>
          <a:xfrm>
            <a:off x="2286000" y="457200"/>
            <a:ext cx="4392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Who was Martin Luther?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Born in Germany in 1483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After surviving a violent storm, he vowed to become a monk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Lived in the city of Wittenberg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Died in 1546.</a:t>
            </a: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56" name="Picture 7" descr="http://upload.wikimedia.org/wikipedia/commons/b/b0/Wittenberg_Market_square.JPG"/>
          <p:cNvPicPr/>
          <p:nvPr/>
        </p:nvPicPr>
        <p:blipFill>
          <a:blip r:embed="rId1"/>
          <a:stretch/>
        </p:blipFill>
        <p:spPr>
          <a:xfrm>
            <a:off x="4495680" y="17524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Definitions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Protest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To express strong objection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Reform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To improve by correcting errors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Problems in the Church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5181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Corruption               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Political Conflicts               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Corruption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427824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7d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The Church raised money through practices like simony and selling indulgences.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64" name="Picture 9" descr="http://upload.wikimedia.org/wikipedia/commons/6/6a/Antichrist1.jpg"/>
          <p:cNvPicPr/>
          <p:nvPr/>
        </p:nvPicPr>
        <p:blipFill>
          <a:blip r:embed="rId1"/>
          <a:stretch/>
        </p:blipFill>
        <p:spPr>
          <a:xfrm>
            <a:off x="5257800" y="1143000"/>
            <a:ext cx="2536920" cy="312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upload.wikimedia.org/wikipedia/commons/4/4e/Indulgence_San_Giovanni_in_Laterano_2006-09-07.jpg"/>
          <p:cNvPicPr/>
          <p:nvPr/>
        </p:nvPicPr>
        <p:blipFill>
          <a:blip r:embed="rId2"/>
          <a:stretch/>
        </p:blipFill>
        <p:spPr>
          <a:xfrm>
            <a:off x="1523880" y="4572000"/>
            <a:ext cx="57135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25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Advantages of Buying Indulgenc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Go Directly to Heaven!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320040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Do not go to Hell!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Do not go to Purgatory!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Get through Purgatory faster!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Do not pass Go!</a:t>
            </a:r>
            <a:endParaRPr b="1" lang="en-US" sz="3600" spc="-1" strike="noStrike">
              <a:solidFill>
                <a:srgbClr val="cb7d1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Political Conflict</a:t>
            </a:r>
            <a:br>
              <a:rPr sz="4000"/>
            </a:b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KINGS AND QUEENS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7d10"/>
                </a:solidFill>
                <a:latin typeface="Verdana"/>
              </a:rPr>
              <a:t>POPES</a:t>
            </a:r>
            <a:endParaRPr b="1" lang="en-US" sz="2800" spc="-1" strike="noStrike">
              <a:solidFill>
                <a:srgbClr val="cb7d10"/>
              </a:solidFill>
              <a:latin typeface="Verdana"/>
            </a:endParaRPr>
          </a:p>
        </p:txBody>
      </p:sp>
      <p:pic>
        <p:nvPicPr>
          <p:cNvPr id="71" name="Picture 8" descr="File:Philippe IV Le Bel.jpg"/>
          <p:cNvPicPr/>
          <p:nvPr/>
        </p:nvPicPr>
        <p:blipFill>
          <a:blip r:embed="rId1"/>
          <a:stretch/>
        </p:blipFill>
        <p:spPr>
          <a:xfrm>
            <a:off x="1143000" y="2743200"/>
            <a:ext cx="272268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File:Urbanus VI.jpg"/>
          <p:cNvPicPr/>
          <p:nvPr/>
        </p:nvPicPr>
        <p:blipFill>
          <a:blip r:embed="rId2"/>
          <a:stretch/>
        </p:blipFill>
        <p:spPr>
          <a:xfrm>
            <a:off x="5410080" y="2286000"/>
            <a:ext cx="24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7d10"/>
                </a:solidFill>
                <a:latin typeface="Verdana"/>
              </a:rPr>
              <a:t>Papal Schism</a:t>
            </a:r>
            <a:endParaRPr b="1" lang="en-US" sz="4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In 1301, the king tried to tax the French clergy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he pope threatened to excommunicate the king and so was arrested. He was later released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he next pope, Clement V, moved the headquarters of the Church from Rome to Avignon in southern France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Many people felt that the French kings controlled the Church.</a:t>
            </a:r>
            <a:endParaRPr b="1" lang="en-US" sz="2000" spc="-1" strike="noStrike">
              <a:solidFill>
                <a:srgbClr val="cb7d10"/>
              </a:solidFill>
              <a:latin typeface="Verdana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1948680" y="335268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be2e"/>
                </a:solidFill>
                <a:latin typeface="Verdana"/>
              </a:rPr>
              <a:t>Ro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5695920" y="32767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be2e"/>
                </a:solidFill>
                <a:latin typeface="Verdana"/>
              </a:rPr>
              <a:t>Avign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9" descr="http://upload.wikimedia.org/wikipedia/commons/c/ca/Castel_D%27Angelo_from_across_the_Tiber.jpg"/>
          <p:cNvPicPr/>
          <p:nvPr/>
        </p:nvPicPr>
        <p:blipFill>
          <a:blip r:embed="rId1"/>
          <a:stretch/>
        </p:blipFill>
        <p:spPr>
          <a:xfrm>
            <a:off x="9144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upload.wikimedia.org/wikipedia/commons/d/db/Avignon%2C_Palais_des_Papes_by_JM_Rosier.jpg"/>
          <p:cNvPicPr/>
          <p:nvPr/>
        </p:nvPicPr>
        <p:blipFill>
          <a:blip r:embed="rId2"/>
          <a:stretch/>
        </p:blipFill>
        <p:spPr>
          <a:xfrm>
            <a:off x="4114800" y="1143000"/>
            <a:ext cx="4630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55:11Z</dcterms:created>
  <dc:creator>Gerard Morrison</dc:creator>
  <dc:description/>
  <dc:language>en-US</dc:language>
  <cp:lastModifiedBy>Robert</cp:lastModifiedBy>
  <dcterms:modified xsi:type="dcterms:W3CDTF">2010-11-21T00:59:23Z</dcterms:modified>
  <cp:revision>150</cp:revision>
  <dc:subject>Protestant Reformation</dc:subject>
  <dc:title>MARTIN LUTHER</dc:title>
</cp:coreProperties>
</file>